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4825" cy="97520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1AD8-87D4-48E9-9F7A-DDABDECAC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E37A-4B39-4A77-8B8D-4E4A42140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A255C-D7CD-41AA-9B7E-D490A9C2B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C293C-B017-4953-A660-45F5DE1E6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353C-29B4-432F-8B7E-583707607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BD6C9-99F6-44F4-A75D-8921D6948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3E9E5-C868-44AD-A6B2-82E16F0926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1E0C-1B72-4F47-A48F-F5C57004D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218A-4079-4DB4-865B-463E2C47E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1FCD-75D5-4D69-BC03-2D1DCC3B0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046-C13F-4907-9983-0817D74B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75E-6966-49FA-A1CB-E2E432F7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5E176-C9A4-451A-A38B-39CC255D0B7E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7236000" y="189000"/>
            <a:ext cx="1755720" cy="18730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900000" y="1844640"/>
            <a:ext cx="6624720" cy="381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Metodologia G.O.P.P.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ruolo del facilitatore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Times New Roman"/>
              </a:rPr>
              <a:t>Il setting d'aula</a:t>
            </a:r>
            <a:endParaRPr b="0" lang="en-US" sz="4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3746520" y="1527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651640" y="2746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651640" y="3813120"/>
            <a:ext cx="129528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7276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994040" y="3889440"/>
            <a:ext cx="129528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984400" y="49561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070000" y="282240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2679840" y="3584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6261120" y="3507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8912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670200" y="4803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89120" y="4803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603520" y="4651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6337440" y="4575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679840" y="2746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6337440" y="2593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755800" y="2593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4356000" y="2289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2679840" y="2593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487880" y="765000"/>
            <a:ext cx="488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42920" y="4941720"/>
            <a:ext cx="1295640" cy="7621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gli obiettivi da perseguire a fronte dei problemi individua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gli obiettivi (albero degli obiettiv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3983040" y="1743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888160" y="2962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888160" y="4029120"/>
            <a:ext cx="129528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9641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30560" y="4105440"/>
            <a:ext cx="1295280" cy="7617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220920" y="51721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306520" y="303840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2916360" y="380016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497640" y="372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2564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906720" y="501948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25640" y="501984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2840040" y="48672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6573960" y="479124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2916360" y="296208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573960" y="280980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992320" y="2809800"/>
            <a:ext cx="358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 flipV="1">
            <a:off x="4592520" y="250524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V="1">
            <a:off x="2916360" y="28094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632960" y="981000"/>
            <a:ext cx="507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empio di albero de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87280" y="5157720"/>
            <a:ext cx="1295640" cy="7621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dentificazione degli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Identificazione degli ambiti o aree di Obiettivi affini a seconda delle competenze istituzionali e/o tecnico-Professionali necessarie per raggiungerl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Scelta degli ambiti di interv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ra tutti gli ambiti individuati gli attori effettuano una scelta di quelli su cui intervenire in base 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Urgenz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Risorse umane e finanziarie disponibi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nteresse strate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Fattibilita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L QUADRO LOGIC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457200" y="1600200"/>
          <a:ext cx="8229600" cy="45259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49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  <a:ea typeface="Tahoma"/>
                        </a:rPr>
                        <a:t>livell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finizio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ificat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BIETTIVI GENERAL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 SOCIALI O ECONOMICI DI LUNGO PERIODO AI QUALI CONTRIBUISCE I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E’ IMPORTANTE PER LA SOCIETA’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COP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EFICIO CHE OTTENGONO I BENEFICIARI DAI SERVIZI FORNITI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CHE’ I BENEFICIARI NE HANNO BISOGN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5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ISULTATI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ERVIZI CHE I BENEFICIARI RICEVERANNO DAL PROGET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ORNISC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  <a:tr h="96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TIVITA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O’ CHE VIENE REALIZZATO NEL PROGETTO PER FORNIRE I SERVIZI PREVIST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A FA CONCRETAMENTE IL PROGETT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a0eefe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06a"/>
                </a:solidFill>
                <a:latin typeface="Arial"/>
              </a:rPr>
              <a:t>DEFINIZIONE DEGLI INDIC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4360" y="1773360"/>
            <a:ext cx="7775280" cy="4062600"/>
          </a:xfrm>
          <a:prstGeom prst="rect">
            <a:avLst/>
          </a:prstGeom>
          <a:solidFill>
            <a:srgbClr val="a0ee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L’</a:t>
            </a:r>
            <a:r>
              <a:rPr b="1" lang="it-IT" sz="2400" spc="-1" strike="noStrike">
                <a:solidFill>
                  <a:srgbClr val="ffffff"/>
                </a:solidFill>
                <a:latin typeface="Tahoma"/>
              </a:rPr>
              <a:t>INDICATOR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’ CIO’ CH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SI PUO’ OSSERVARE NELLA REALTA’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QUANDO SI RAGGIUNGE UN RISULTA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O UN OBIETTIVO O SI REALIZZA UNA ATTIVITA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ESSO E’ COSTITUITO D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A VARIAB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VALORE DI RIFERI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ARGET-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99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UN TEMPO DI OSSERV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AD ESEMPIO DIMINUZIONE DEL 10%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LORE D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RIFERIMENTO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DELLA DISPERSION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VARIABIL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DEGLI ALLIEVI DEL BIENNIO SUPERIORE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ARGET-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GROUP)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 ENTRO DUE ANNI (</a:t>
            </a:r>
            <a:r>
              <a:rPr b="1" lang="it-IT" sz="1800" spc="-1" strike="noStrike">
                <a:solidFill>
                  <a:srgbClr val="009999"/>
                </a:solidFill>
                <a:latin typeface="Tahoma"/>
              </a:rPr>
              <a:t>TEMPO DI OSSERVAZIONE</a:t>
            </a:r>
            <a:r>
              <a:rPr b="1" lang="it-IT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IL ruolo del facilitato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1052640"/>
            <a:ext cx="8136000" cy="52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l facilitatore  è  un consulente “di process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a ascoltare,permette a tutti di esprimersi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iuta il gruppo di lavor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è un animatore-moderatore esterno che è neutrale rispetto al tema in discus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non  impone il suo punto di vista e non prospet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oluzioni che devono essere individuate da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211640" y="1557360"/>
            <a:ext cx="719280" cy="431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4211640" y="2852640"/>
            <a:ext cx="720720" cy="4320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067280" y="4149720"/>
            <a:ext cx="100800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49600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GLI STRUMENTI DI LAVORO DEL FACILITATOR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684360" y="1700280"/>
            <a:ext cx="3200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A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284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665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047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27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 rot="1954200">
            <a:off x="7884720" y="228744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904000" y="2211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1418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227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361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122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113680" y="35830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52276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141880" y="2211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13680" y="25923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13680" y="28972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113680" y="32781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7996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742080" y="449748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rot="18188400">
            <a:off x="7923240" y="43066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113680" y="3963960"/>
            <a:ext cx="30492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04200" y="4497480"/>
            <a:ext cx="30456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761000" y="228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075200" y="1906560"/>
            <a:ext cx="152280" cy="304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rot="3016200">
            <a:off x="4494240" y="1944720"/>
            <a:ext cx="76320" cy="45720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218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599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1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979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74208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122960" y="19828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04200" y="19828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113680" y="213516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7580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265960" y="449748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456080" y="4726080"/>
            <a:ext cx="152280" cy="15228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437160" y="480204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1840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99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218200" y="472608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990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056280" y="4802040"/>
            <a:ext cx="15228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255920" y="5367240"/>
            <a:ext cx="127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PARETE LISC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 flipH="1" flipV="1">
            <a:off x="4227480" y="4725720"/>
            <a:ext cx="53352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240440" y="1557360"/>
            <a:ext cx="217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VAGNA A FOGLI MOBI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532040" y="1677960"/>
            <a:ext cx="759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877000" y="518328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6520" y="5214960"/>
            <a:ext cx="840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CESTI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 flipV="1">
            <a:off x="4532040" y="4802040"/>
            <a:ext cx="14475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766120" y="3081240"/>
            <a:ext cx="190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BANCO PARTECIPA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 flipH="1" flipV="1">
            <a:off x="6056280" y="2363400"/>
            <a:ext cx="763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459640" y="26370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459640" y="29415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459640" y="33228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459640" y="3627360"/>
            <a:ext cx="152640" cy="1526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459640" y="4008600"/>
            <a:ext cx="15264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11280" y="549360"/>
            <a:ext cx="734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620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 METODOLOGIA  G.O.P.P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971640" y="2420640"/>
            <a:ext cx="741672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 metodologia G.O.P.P.(Goal Oriented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lanning),progettazione orientata agli obiettivi, 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metodo innovativ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per realizzare incontri 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lavoro in cui i diversi attori-chiave ed i beneficia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i un progetto intervengono in manier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partecip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guendo una procedura di lavoro strutturata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uidata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a  un  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611280" y="1628640"/>
            <a:ext cx="8348400" cy="44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MATERIALI DI CONSU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OGLI (1X1,5 MT)DI CARTA DA PACCHI MARR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GIA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VER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ROS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0 CARTONCINI (10X21 CM) DI COLORE BIAN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0 PENNARELLI NERI A TRATTO GRO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5 PENNARELLI ROSSI E B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N ROTOLO DI SCOT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 STICK DI COLL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26028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258920" y="1989000"/>
            <a:ext cx="2743200" cy="152424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RANDE E 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TAMPATE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059280" y="4005360"/>
            <a:ext cx="312408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CRIVERE U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OL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ER OG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ARTONCI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148360" y="1989000"/>
            <a:ext cx="2971800" cy="160020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CRIVERE N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DI 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RIG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333360"/>
            <a:ext cx="779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A PREPAR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PRI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97524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195560" y="2246400"/>
            <a:ext cx="6978600" cy="33858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REARE UN CLIMA DI PARTECIP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SSERE NEUTRALI RISPETTO AL T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IUTARE IL GRUPPO A PROGRE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ARANTIRE UN SENSO DI PARITA’ A TU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VERE CONCRETEZZA NE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TILIZZARE UNA LOGICA DI 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NDERE TRASPARENTI GLI INTER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GLI ATTORI-CHIA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GESTIRE I CONFLITTI IN MODO NEUT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161360" y="1584360"/>
            <a:ext cx="2421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Tahoma"/>
              </a:rPr>
              <a:t>IN GENER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755640" y="907920"/>
            <a:ext cx="7792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 L’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49200" y="2662200"/>
            <a:ext cx="8229600" cy="3070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FACILITATORE AIUTA IL GRUPPO 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DENTIFICARE UN PROBLEMA COME CONDI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ALE vissuta da  chi la espr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OGGETTIVA cioè basato su situazioni determin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NEGATIVA ATTUALE e non come sol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HIA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PECIF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042920" y="1989000"/>
            <a:ext cx="7010640" cy="4354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CHIUSE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-RISPOSTA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I</a:t>
            </a:r>
            <a:r>
              <a:rPr b="0" lang="it-IT" sz="2400" spc="-1" strike="noStrike">
                <a:solidFill>
                  <a:srgbClr val="000000"/>
                </a:solidFill>
                <a:latin typeface="Tahoma"/>
              </a:rPr>
              <a:t> O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ahoma"/>
              </a:rPr>
              <a:t>DOMANDE APERTE</a:t>
            </a:r>
            <a:r>
              <a:rPr b="1" lang="it-IT" sz="32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GLI ATTORI-CHIAV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TI ASPETTI DI OTTENERE DA QUESTO INCONTR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RITIENI CHE L’OBIETTIVO PROPOSTO SODDISFI LE T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ASPETTATIV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D ESEMPIO NELL’ANALISI DEI PROBLEMI(in caso d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Formulazioni non corrette)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ACCADE NELLA REALTA’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QUALE PROBLEMA SI RISOLVE CON….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ERCHE’ QUESTO E’ UN PROBLEM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IN CHE MODO IL BENEFICIARIO PUO’ AVERE UN VANTAGGI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PUOI FARE UN ESEMPIO CONCRET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600" spc="-1" strike="noStrike">
                <a:solidFill>
                  <a:srgbClr val="000000"/>
                </a:solidFill>
                <a:latin typeface="Tahoma"/>
              </a:rPr>
              <a:t>COSA NON E’ IN GRADO DI FARE  X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39640" y="333360"/>
            <a:ext cx="779328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Arial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DURANTE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O DELLE DOMAN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798480" y="2373480"/>
            <a:ext cx="7483680" cy="3753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COLTARE  ATTENTAMENTE QUANTO STA DICENDO UN PARTECIP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DIMOSTRARE IN MODO NON VERBALE ATTENZIONE E INTERESSE A QUANTO D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USARE FRASI DEL TIPO  : </a:t>
            </a:r>
            <a:r>
              <a:rPr b="1" i="1" lang="en-US" sz="2000" spc="-1" strike="noStrike">
                <a:solidFill>
                  <a:srgbClr val="000000"/>
                </a:solidFill>
                <a:latin typeface="Tahoma"/>
              </a:rPr>
              <a:t>SE NON SBAGLIO TU DICI CHE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…….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RIPETENDO E RIASSUMENDO IL PUNTO DI VISTA DI CHI INTERVIENE USANDO LE SUE STESSE PAROLE-CHIA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CONFERMA A CHI HA PARLATO DELLA CORRETTEZZA DI SINTESI FAT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HIEDERE AL GRUPPO SE E’ CHIARO QUANTO SINTETIZZA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35600" y="69228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512640" y="1865160"/>
            <a:ext cx="8077320" cy="4483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LA TECNICA DEL CATCH THE BALL E QUELLA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ARROTING SONO FONDAMENTALI N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NDUZIONE DI UN GRUPPO DA PARTE DI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ACILIT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CATCH THE BAL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L’AFFERR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L MOMENTO IN CUI IL GRUPPO ARRIVA A CHIA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UNA DISCUSSIONE ED ESPRIMERE UN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IL PARROT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CONSISTE NEL RIPETERE IL DISCOR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 UN PARTECIPANTE CON LE DOMANDE APERTE 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EDERE CONFERMA DELLA SIN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551600" y="33336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79280" y="1125360"/>
            <a:ext cx="8686800" cy="6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CATCH THE BALL E PARRO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542880" y="628560"/>
            <a:ext cx="77929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O DELLA VISUAL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92920" y="2068560"/>
            <a:ext cx="7566120" cy="4117320"/>
          </a:xfrm>
          <a:prstGeom prst="rect">
            <a:avLst/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ANTAGG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LA RAPPRESENTAZIONE SU FOGLI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MOLTE INDICAZIONI PERMETTE U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VISIONE DI INSIEME ED UNA GEST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PIU’ SEMPL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COMPRENDERE IL LEG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DI CAUSA-EFFETTO TRA I VARI ELE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AVERE IL CONTRIBUTO D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TUTTO IL GR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CONSENTE DI FOCALIZZARE GLI INTERV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it-IT" sz="2400" spc="-1" strike="noStrike">
                <a:solidFill>
                  <a:srgbClr val="000000"/>
                </a:solidFill>
                <a:latin typeface="Tahoma"/>
              </a:rPr>
              <a:t>SU ELEMENTI SINTE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43600" y="620640"/>
            <a:ext cx="594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URA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96760" y="54936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79480" y="172404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INTERMED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43040" y="253044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781520" y="260676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743040" y="2987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172040" y="253044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939600" y="261288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3040" y="3444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94960" y="306396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43040" y="39783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778320" y="3521160"/>
            <a:ext cx="274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TATO DI AVANZAMEN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43040" y="44355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06400" y="405432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43040" y="48164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66520" y="451152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43040" y="5197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826560" y="4892760"/>
            <a:ext cx="365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OSTACOLI E PROBL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19280" y="5661000"/>
            <a:ext cx="720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82360" y="527364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901080" y="573084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96760" y="620640"/>
            <a:ext cx="4997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cc00"/>
                </a:solidFill>
                <a:latin typeface="Tahoma"/>
              </a:rPr>
              <a:t>COSA FARE  </a:t>
            </a:r>
            <a:r>
              <a:rPr b="0" lang="en-US" sz="4400" spc="-1" strike="noStrike">
                <a:solidFill>
                  <a:srgbClr val="009999"/>
                </a:solidFill>
                <a:latin typeface="Tahoma"/>
              </a:rPr>
              <a:t>DOP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879480" y="1795320"/>
            <a:ext cx="69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PREPARARE UNA SCHEDA DI VALUTAZIONE FIN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43040" y="2602080"/>
            <a:ext cx="7162560" cy="365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781520" y="2678040"/>
            <a:ext cx="144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DATA DI STES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43040" y="30592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4172040" y="2602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39600" y="2684520"/>
            <a:ext cx="153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00"/>
                </a:solidFill>
                <a:latin typeface="Tahoma"/>
              </a:rPr>
              <a:t>ATTIVITA’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43040" y="35164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94960" y="3135240"/>
            <a:ext cx="195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ATTE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43040" y="4049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43040" y="45068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82360" y="3592440"/>
            <a:ext cx="230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RISULTATI OTTENU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743040" y="488808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866520" y="4583160"/>
            <a:ext cx="351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LEMENTI DI PROCESSO POSI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43040" y="526896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878760" y="4964040"/>
            <a:ext cx="554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CARTO TRA ATTIVITA’ PROGRAMMATA E REALIZZ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19280" y="573264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55360" y="5372280"/>
            <a:ext cx="214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ZIONI DA EVIT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74080" y="5803920"/>
            <a:ext cx="2742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OSSERVAZIONI GENE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93880" y="4125960"/>
            <a:ext cx="643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VENTUALI MOTIVI DI NON RAGGIUNGIMENTO DEI RISULTA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progettazione per obiettiv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rientata agli obiet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e non alle attivit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progettazione è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rtat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cioè definita sia con l’apporto degli attori-chiave che c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llo dei beneficiari finali del proget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 modo che il progetto finale risulta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divis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 rispondente ai problemi real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i beneficiar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copo dell’apprendimento laboratori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struire  e/o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tenziare le risorse della sing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ersona in apprend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traverso metodologie didat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consentano ai giovani di riconoscere 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rie risorse e d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strui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etenze orientative trasvers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211640" y="2133720"/>
            <a:ext cx="57636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51280" y="3213000"/>
            <a:ext cx="1295280" cy="8636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boratori di ricerca - azion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’obiettivo del MIU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è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’attivazion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 processi di ricerca attiv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esso le scuole secondarie di 2° grado che hanno mostrato attenzione verso l’innovazione e volontà di sperimentare e mettersi in “discussione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involge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li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ttori-chiave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a nell’individuazione de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e nella ricerca delle solu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rean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 ambiente positivo e costruttivo in cui risulti prioritario                    il principio della condivisio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999200" y="5924520"/>
            <a:ext cx="24480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9933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O FINALE DI UN LABORATOR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GOP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’ QUELLO DI DEFINIRE UNA MATRICE DI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ETTAZION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339933"/>
                </a:solidFill>
                <a:latin typeface="Arial"/>
              </a:rPr>
              <a:t>(QUADRO LOGIC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CUI  L’IDEA PROGETTUALE E’ SVILUPP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UTTI GLI ELEMENTI FONDAMENTAL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IETTIVI GENERALI, SCOPO, RISULTATI, ATTIVITA’, RISCHI, PREREQUISIT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E DI ANALI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alisi degli obietti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ividuazione ambiti di interv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FINIZIONE DEL TE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l tema  è l’argomento su cui avviene la proget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seconda dell’ampiezza del tema varia i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umero di attori-chiave da coinvolgere 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lle risorse da impieg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40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gli attori-chiav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 soggetti portatori di interessi qualificati che possono contribuire all’intervento progettu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n modo trasparente gli interessi e le aspettative di ciascun attore-chia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Identificare il contributo che ciascun attore- chiave puo’ apportare al proget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06a"/>
                </a:solidFill>
                <a:latin typeface="Arial"/>
              </a:rPr>
              <a:t>IL LABORATORIO DI PROGETTAZIONE GOPP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Analisi dei problem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Identificazione dei problemi relativi al  tema (situazioni negative attuali ed oggettive e possibili caus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Arial"/>
              </a:rPr>
              <a:t>Gerarchizzazione dei problemi (albero dei problemi) relazione di causa- effetto leggibile dal basso verso l’a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9T19:02:36Z</dcterms:created>
  <dc:creator>Standard</dc:creator>
  <dc:description/>
  <dc:language>en-US</dc:language>
  <cp:lastModifiedBy>enzo d'onofrio</cp:lastModifiedBy>
  <dcterms:modified xsi:type="dcterms:W3CDTF">2006-01-23T11:58:19Z</dcterms:modified>
  <cp:revision>14</cp:revision>
  <dc:subject/>
  <dc:title>LA  METODOLOGIA  G.O.P.P.</dc:title>
</cp:coreProperties>
</file>